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B210F-AB3B-4470-82E7-093E378C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EDC9-7812-40FA-8B00-B816BDFDA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6707C-677F-4AD9-B8CC-9D9FADDE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33DD3-5B88-4651-A2CD-73523C990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2CAF6-5020-4855-A049-354174D78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AED28-A6CF-41E6-B3A5-A3145C92E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FF15-0F65-414B-9201-A6137CEC3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71A33-EBDB-4E44-8DB6-05CEC54A0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B5514-EAE8-47F8-B0B1-A1803DD82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52990-049E-44E2-BB43-929D5456C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CF6A-D730-47E0-BBC5-B42F69650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3626-037F-4208-98A8-D456615E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E919E-0AD5-477D-B0AD-2D4488569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1810-7621-4C45-B445-3A6C9CA8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DFB7F-D397-43AD-83F7-0BB5C3E58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F3C3F-7E39-4B92-9A3F-4187AFD32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00A47-9C34-4D3D-9316-1761E2B71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B7F31-6FAA-429B-A8A8-F8130B391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8A6B2-896A-48BE-90B2-5D127116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56AC-ED90-46D5-B57C-8744C12B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2A20-9359-41BB-A36A-17DEC7D6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FFE0-2C1E-4972-9A33-1A2CDA08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EAE5-3D3D-4CBC-9C2E-62F1D6E00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37DC-00EB-4385-AE01-1995972F0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3F06-F6B8-42EB-8CAC-EBFB62B8CD3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D91F-9E00-4C2E-B960-AD23AD312CD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lAur_I077NA"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AWeZ5SKXvj8"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WFnSxeDfENk&amp;feature=related"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old War at Hom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r: McCarthyism</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cCarthy’s Power Increases</a:t>
            </a:r>
            <a:endParaRPr b="0" lang="en-US" sz="4400" spc="-1" strike="noStrike">
              <a:solidFill>
                <a:srgbClr val="ffffcc"/>
              </a:solidFill>
              <a:latin typeface="Tahoma"/>
            </a:endParaRPr>
          </a:p>
        </p:txBody>
      </p:sp>
      <p:sp>
        <p:nvSpPr>
          <p:cNvPr id="115" name="PlaceHolder 2"/>
          <p:cNvSpPr>
            <a:spLocks noGrp="1"/>
          </p:cNvSpPr>
          <p:nvPr>
            <p:ph/>
          </p:nvPr>
        </p:nvSpPr>
        <p:spPr>
          <a:xfrm>
            <a:off x="304920" y="1600200"/>
            <a:ext cx="54100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50-195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ticommunism=McCarthyis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eme, reckless charg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redit legitimate concerns </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powerful politician in the U.S.</a:t>
            </a:r>
            <a:endParaRPr b="0" lang="en-US" sz="2800" spc="-1" strike="noStrike">
              <a:solidFill>
                <a:srgbClr val="ffffff"/>
              </a:solidFill>
              <a:latin typeface="Tahoma"/>
            </a:endParaRPr>
          </a:p>
        </p:txBody>
      </p:sp>
      <p:pic>
        <p:nvPicPr>
          <p:cNvPr id="116" name="" descr=""/>
          <p:cNvPicPr/>
          <p:nvPr/>
        </p:nvPicPr>
        <p:blipFill>
          <a:blip r:embed="rId1"/>
          <a:stretch/>
        </p:blipFill>
        <p:spPr>
          <a:xfrm>
            <a:off x="5562720" y="3583080"/>
            <a:ext cx="3581280" cy="32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cCarthy Falls from Power</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4: McCarthy takes on the U.S. Arm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ull of communis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my: McCarthy personally motivated</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evised hearing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llying tactic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ger witnesses, twist truth</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t support, power, influe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Have You No Decency?</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Red Scare Fade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3: Korean War en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4: McCarthy’s downfa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 and Schedul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1, #1, 2</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2, #1, 2</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e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3, #1, 2</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4, #1, 2</a:t>
            </a:r>
            <a:endParaRPr b="0" lang="en-US" sz="2400" spc="-1" strike="noStrike">
              <a:solidFill>
                <a:srgbClr val="ffffff"/>
              </a:solidFill>
              <a:latin typeface="Tahoma"/>
            </a:endParaRPr>
          </a:p>
        </p:txBody>
      </p:sp>
      <p:sp>
        <p:nvSpPr>
          <p:cNvPr id="12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dne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om 10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r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 Cent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s!</a:t>
            </a:r>
            <a:endParaRPr b="0" lang="en-US" sz="2400" spc="-1" strike="noStrike">
              <a:solidFill>
                <a:srgbClr val="ffffff"/>
              </a:solidFill>
              <a:latin typeface="Tahoma"/>
            </a:endParaRPr>
          </a:p>
        </p:txBody>
      </p:sp>
      <p:sp>
        <p:nvSpPr>
          <p:cNvPr id="124" name=""/>
          <p:cNvSpPr/>
          <p:nvPr/>
        </p:nvSpPr>
        <p:spPr>
          <a:xfrm>
            <a:off x="380880" y="5562720"/>
            <a:ext cx="8153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ill not be a test for this uni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assessment will be the project and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Us-versus-Them”</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crats v. totalitarian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italists v. communis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st v. Eas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836960" y="1219320"/>
            <a:ext cx="381816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Red Scare</a:t>
            </a:r>
            <a:endParaRPr b="0" lang="en-US" sz="4400" spc="-1" strike="noStrike">
              <a:solidFill>
                <a:srgbClr val="ffffcc"/>
              </a:solidFill>
              <a:latin typeface="Tahoma"/>
            </a:endParaRPr>
          </a:p>
        </p:txBody>
      </p:sp>
      <p:pic>
        <p:nvPicPr>
          <p:cNvPr id="94" name="" descr=""/>
          <p:cNvPicPr/>
          <p:nvPr/>
        </p:nvPicPr>
        <p:blipFill>
          <a:blip r:embed="rId1"/>
          <a:stretch/>
        </p:blipFill>
        <p:spPr>
          <a:xfrm>
            <a:off x="658800" y="1219320"/>
            <a:ext cx="3738600" cy="5410080"/>
          </a:xfrm>
          <a:prstGeom prst="rect">
            <a:avLst/>
          </a:prstGeom>
          <a:ln w="0">
            <a:noFill/>
          </a:ln>
        </p:spPr>
      </p:pic>
      <p:sp>
        <p:nvSpPr>
          <p:cNvPr id="9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ts “are everywhere—in factories, offices, butcher stores, on street corners, and private businesses.  And each carries in himself the death of our socie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rPr>
              <a:t>He May Be A Communist</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deral Employee Loyalty Program</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947</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een federal employees for signs of disloyal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00 dismissed or resig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use Un-American Activities Committee (HUAC)</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38</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cists, Nazis, communist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war—communist activit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47: Hollywood Te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acklis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 descr=""/>
          <p:cNvPicPr/>
          <p:nvPr/>
        </p:nvPicPr>
        <p:blipFill>
          <a:blip r:embed="rId1"/>
          <a:stretch/>
        </p:blipFill>
        <p:spPr>
          <a:xfrm>
            <a:off x="4487760" y="1523880"/>
            <a:ext cx="40006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act on Film</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tainmen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oid sensitive social issu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rified HUAC, anti-communist message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Invasion of the Body Snatchers</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pic>
        <p:nvPicPr>
          <p:cNvPr id="103" name="" descr=""/>
          <p:cNvPicPr/>
          <p:nvPr/>
        </p:nvPicPr>
        <p:blipFill>
          <a:blip r:embed="rId2"/>
          <a:stretch/>
        </p:blipFill>
        <p:spPr>
          <a:xfrm>
            <a:off x="4648320" y="2286000"/>
            <a:ext cx="4038480" cy="313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stigation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ong to/contribute to organization on Attorney General’s li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ing with known communis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loyal remar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ionage</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r Hi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lius and Ethel Rosenberg</a:t>
            </a:r>
            <a:endParaRPr b="0" lang="en-US" sz="2800" spc="-1" strike="noStrike">
              <a:solidFill>
                <a:srgbClr val="ffffff"/>
              </a:solidFill>
              <a:latin typeface="Tahoma"/>
            </a:endParaRPr>
          </a:p>
        </p:txBody>
      </p:sp>
      <p:pic>
        <p:nvPicPr>
          <p:cNvPr id="109" name="" descr=""/>
          <p:cNvPicPr/>
          <p:nvPr/>
        </p:nvPicPr>
        <p:blipFill>
          <a:blip r:embed="rId1"/>
          <a:stretch/>
        </p:blipFill>
        <p:spPr>
          <a:xfrm>
            <a:off x="304920" y="2514600"/>
            <a:ext cx="3809880" cy="2971800"/>
          </a:xfrm>
          <a:prstGeom prst="rect">
            <a:avLst/>
          </a:prstGeom>
          <a:ln w="0">
            <a:noFill/>
          </a:ln>
        </p:spPr>
      </p:pic>
      <p:pic>
        <p:nvPicPr>
          <p:cNvPr id="110" name="" descr=""/>
          <p:cNvPicPr/>
          <p:nvPr/>
        </p:nvPicPr>
        <p:blipFill>
          <a:blip r:embed="rId2"/>
          <a:stretch/>
        </p:blipFill>
        <p:spPr>
          <a:xfrm>
            <a:off x="5029200" y="2514600"/>
            <a:ext cx="3214800" cy="292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nator Joseph McCarthy</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tors in the United Stat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50: Wheeling, Virginia</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 have here in my hand a list of 205 individuals that were known to the Secretary of State as being members of the Communist Party and who nevertheless are still working and shaping the policy of the State Department.”</a:t>
            </a:r>
            <a:endParaRPr b="0" lang="en-US" sz="2000" spc="-1" strike="noStrike">
              <a:solidFill>
                <a:srgbClr val="ffffff"/>
              </a:solidFill>
              <a:latin typeface="Tahoma"/>
            </a:endParaRPr>
          </a:p>
        </p:txBody>
      </p:sp>
      <p:pic>
        <p:nvPicPr>
          <p:cNvPr id="113" name="" descr=""/>
          <p:cNvPicPr/>
          <p:nvPr/>
        </p:nvPicPr>
        <p:blipFill>
          <a:blip r:embed="rId1"/>
          <a:stretch/>
        </p:blipFill>
        <p:spPr>
          <a:xfrm>
            <a:off x="4756320" y="1758960"/>
            <a:ext cx="4006800" cy="39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02:59:15Z</dcterms:created>
  <dc:creator>Owner</dc:creator>
  <dc:description/>
  <dc:language>en-US</dc:language>
  <cp:lastModifiedBy>Owner</cp:lastModifiedBy>
  <dcterms:modified xsi:type="dcterms:W3CDTF">2010-04-23T06:16:13Z</dcterms:modified>
  <cp:revision>3</cp:revision>
  <dc:subject/>
  <dc:title>The Cold War at Home</dc:title>
</cp:coreProperties>
</file>